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2572-09A6-4B41-9643-41A16256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C5AA-C748-408A-88B0-2CCB435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DCEF-66FC-4F97-B261-74E01826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2E6A-17C9-407A-AC31-A2EBFF03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1B46-985A-4835-A0A0-4CF432F2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F780-A589-40AD-9635-4239EC44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6AD5-26E1-4870-AFB5-713C290B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3D0-D561-4475-8AD6-2CF6E5C6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3B5-5812-4581-9B32-C454320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5791-83EB-48FE-88EC-8E66251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3E59-C925-4992-8129-21976EE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BC82-EA9A-41DB-BDB6-C9E7DF8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0A9D-6CEC-4FC5-B519-AC9F299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0741-4D5B-4B6A-9A27-805D6F8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5802-B1E3-498D-847E-C286EC6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86E-C098-4628-AA8D-18B1937F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CCDF-3AA0-42CA-B1F9-6774066C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936E-B3FF-468A-8BAE-7B14905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C52C-8E7B-4E51-BEB0-9420D1C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A755-9762-4FE8-98E4-33EC7D90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F8A2-9459-4165-82EC-172C08DF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1DE1-6C58-42D6-97E3-A44ED79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4357-FA1D-4883-8AB6-71EF3CC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333-450B-4147-9728-046709F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F8C4-9590-4D4A-8855-F1742001A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5C8-5434-4014-B7EA-9AD1DA510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p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Quentin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cts About The Sun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05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21:02Z</dcterms:created>
  <dc:creator>qbrown</dc:creator>
  <dc:description/>
  <dc:language>en-US</dc:language>
  <cp:lastModifiedBy>qbrown</cp:lastModifiedBy>
  <dcterms:modified xsi:type="dcterms:W3CDTF">2011-04-01T18:24:14Z</dcterms:modified>
  <cp:revision>1</cp:revision>
  <dc:subject/>
  <dc:title>Space</dc:title>
</cp:coreProperties>
</file>